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1E2-4A8C-4FA3-A296-4A882CF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ABC-0BCF-4DC9-B33C-ACE3B69F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B66-EEC2-4C64-9D6F-E1AFF601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C31-3CF9-4F3F-8F62-AF240E1D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217-9174-436C-AE16-CB9BDA6A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7CF-2BD0-4A83-9290-0ED591DC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6EB-D2BA-4447-B3B7-737F9FBB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000-13D5-40C0-B3DB-61AB4B3D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CB6-9972-4E16-AE74-DA3789DD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CC3-7FE1-42B4-B164-AB7AD8F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979-7C8D-468F-82A1-1366450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22B-7A59-47A3-841F-22A9992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19DA-CCD6-4639-A21E-C6FCFFF0A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tcalmvillage.net/nowwhatzine8/zinegraphics8/mistakes.jpg&amp;imgrefurl=http://cashound.blogspot.com/2007/07/6-mistakes-people-make-with-adsense.html&amp;h=232&amp;w=250&amp;sz=19&amp;hl=en&amp;start=3&amp;tbnid=-6D69HJ8wQqzIM:&amp;tbnh=103&amp;tbnw=111&amp;prev=/images%3Fq%3Dmistakes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ache.eb.com/eb/image%3Fid%3D61217%26rendTypeId%3D4&amp;imgrefurl=http://concise.britannica.com/ebc/art-51523/Hamid-Estili-celebrates-after-scoring-a-goal-during-Irans-victory&amp;h=350&amp;w=274&amp;sz=21&amp;hl=en&amp;start=1&amp;um=1&amp;tbnid=zBC6HtpkE62-xM:&amp;tbnh=120&amp;tbnw=94&amp;prev=/images%3Fq%3Dscoring%2Ba%2Bgoal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nancarrow-webdesk.com/warehouse/storage2/2007-w44/img.55185_t.jpg&amp;imgrefurl=http://www.nancarrow-webdesk.com/warehouse/storage2/2007-w44/img.55185.html&amp;h=400&amp;w=313&amp;sz=11&amp;hl=en&amp;start=1&amp;um=1&amp;tbnid=OuoU2Qz0BdYmAM:&amp;tbnh=124&amp;tbnw=97&amp;prev=/images%3Fq%3Dmissing%2Ba%2Bgoal%26svnum%3D10%26um%3D1%26hl%3De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rove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the mistak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04640"/>
            <a:ext cx="27860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your new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now use your new skills for writing sentences to improve what you wrote in last week’s unseen poetry t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commas, full stops and connectives that are in the wrong place or should be chang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look for sentences that are missing connectiv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hange the connective if you think the sentence would make more se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idate no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he content of the poem is important it shows the writer’s true opinions of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Answers you could have given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he content of the poem is importa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Bodoni MT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it shows the writer’s true opinions of lov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he content of the poem is important.  It shows the writer’s true opinions of lov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OR any of these connectives between ‘important’ and ‘it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1" lang="en-US" sz="2800" spc="-1" strike="noStrike">
                <a:solidFill>
                  <a:srgbClr val="993366"/>
                </a:solidFill>
                <a:latin typeface="Bodoni MT"/>
              </a:rPr>
              <a:t>because   therefore   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check the spelling mistak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2038320"/>
            <a:ext cx="54734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have been wr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370720" cy="4525920"/>
        </p:xfrm>
        <a:graphic>
          <a:graphicData uri="http://schemas.openxmlformats.org/drawingml/2006/table">
            <a:tbl>
              <a:tblPr/>
              <a:tblGrid>
                <a:gridCol w="2212920"/>
                <a:gridCol w="2011320"/>
                <a:gridCol w="2109960"/>
                <a:gridCol w="2036520"/>
              </a:tblGrid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i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htori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es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agrap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r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340840" cy="4525920"/>
        </p:xfrm>
        <a:graphic>
          <a:graphicData uri="http://schemas.openxmlformats.org/drawingml/2006/table">
            <a:tbl>
              <a:tblPr/>
              <a:tblGrid>
                <a:gridCol w="2174760"/>
                <a:gridCol w="2011320"/>
                <a:gridCol w="2075040"/>
                <a:gridCol w="2079720"/>
              </a:tblGrid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etori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all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make things hard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looking for spelling mistakes but now you must also spot where connectives, commas and full stops should b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6003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idate no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bout love, the writer trys to find the words to tell someone that they love h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uses repetition in some parts of the poem, when she says, “I love you, I love you, I love you,” this gives the impression that she is despar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forget to use capitals for the beginning of sentences and for names BUT NOWHERE EL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should not appear in the middle of a word – e.g. d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n’t, f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or de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, don’t ever writ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y itself – always writ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THESE POINTS ARE VERY IMPORTANT AND FAILURE TO COMPLY MAY RESULT IN THE LOSS OF 5% IN YOUR EXAM – I.E. HALF A GRAD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 the sentences be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em “these words” is about someone who is in love with some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ter is really trying to emphasise the meaning of love.  by not only saying it once but saying it many times al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 writer is trying to develop their ideas and i wouldn’t change his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77496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common mistakes in writing is not separating sentences properly.  Often, two sentences are merged into one and/or separated with a comma, which is wro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shows he is in love, he also doesn’t think he’s good enoug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WRONG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is should actually be writt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shows he is in love.  He also doesn’t think he’s good enoug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ter shows he is in love and he also doesn’t think he’s good enoug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eparat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separating two full sentences with a comma, use either a full stop OR a connective (as shown in the previous sl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s you could use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88000" y="1628640"/>
          <a:ext cx="3281400" cy="3600720"/>
        </p:xfrm>
        <a:graphic>
          <a:graphicData uri="http://schemas.openxmlformats.org/drawingml/2006/table">
            <a:tbl>
              <a:tblPr/>
              <a:tblGrid>
                <a:gridCol w="1531800"/>
                <a:gridCol w="17496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f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 flipV="1">
            <a:off x="3924360" y="4581360"/>
            <a:ext cx="71892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7340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B.  A full sentence is a clause that makes sense on its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t the mista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out the mistakes in the following lines and correct them appropriate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em is full of action verbs to give it pace, this shows the writer is trying to mimic the effect of w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‘cry’ makes us sympathise with the writer, they aren’t as tough as they first s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using a full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em is full of action verbs to give it pace.  This shows the writer is trying to mimic the effect of war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‘cry’ makes us sympathise with the writer.  They aren’t as tough as they first seem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using 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em is full of action verbs to give it pac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shows the writer is trying to mimic the effect of war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‘cry’ makes us sympathise with the write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aren’t as tough as they first seem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onnectives need a full stop and a co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eparate two sentences you can choose a connective but it also needs a full stop in front of it and a comma afterw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e.g. I hate doing coursework however, it means I do less exam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RONG!  This should r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I hate doing coursework.  However, it means I do less exa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sentences need a comma and a full s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following sentences and decide which ones need a comma before the conn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357720"/>
            <a:ext cx="2143080" cy="273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3357720"/>
            <a:ext cx="2084400" cy="266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3500280"/>
            <a:ext cx="12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 or mi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your c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or no to a full stop and/or a com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tasted great therefore it didn’t need sal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tasted great and it didn’t need s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tasted rubbish but it didn’t need sa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awful so it didn’t need s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delicious nevertheless it needed sal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rancid however it looked g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od was yummy because Miss Gregory had mad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8:15:22Z</dcterms:created>
  <dc:creator>agregory</dc:creator>
  <dc:description/>
  <dc:language>en-US</dc:language>
  <cp:lastModifiedBy>agregory</cp:lastModifiedBy>
  <dcterms:modified xsi:type="dcterms:W3CDTF">2008-01-21T10:39:06Z</dcterms:modified>
  <cp:revision>48</cp:revision>
  <dc:subject/>
  <dc:title>How to improve your writing</dc:title>
</cp:coreProperties>
</file>